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8C57-C8D6-497F-A345-EEB28219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930-7F68-4BC2-8C3D-9556778E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BAA-D25E-450E-85B7-F7798C84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2481-7813-4C1C-9F6B-C815C90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DD6-BA2D-47AD-9205-1991945F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F943-D6AB-4593-9D35-55043E74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159-0988-4771-A0B2-F1FDFA4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0DE-0A28-462F-AA40-6CEBC5F2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743-E7A5-44CE-9DF2-65950A1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483-B1E0-47D8-904D-0AD66D71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30B-42CA-4E6E-9D1F-98C5DDC0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F46-5F46-41D1-84F8-0BBEEBE7E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B28B-243A-495A-9BDA-7B008C1CD431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055C-1AB4-4FA6-B654-8E06D1D99E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igital Modulation and De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ndwidth Considerations of Modulated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of modulated signal twice that of highest modulating signal frequenc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mb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ing of two or more bi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ud 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bol 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-Ary P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s two data channels; one phase-shifted by 90° with respect to the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-phase-shifted chann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(for “in-phase”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-shifted chann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 (for “quadrature”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-Ary P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channel contributes to direction of vector within phase constel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PSK trans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ata bandwidth compres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-Ary PS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PSK and forms of M-Ary modulation carried out with DSP-based chipse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and Q bit streams considered two independent components of modulated signal that, when combined, form composite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drature Amplitud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PSK technique can be extended to more than four phase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eight states, each point on constellation represents 3-bit binary symbo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ellation pattern visual indication of system linearity and noise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-Ary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ffset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cause QAM schemes based in part on amplitude modulation, they suffer from drawbacks associated with any form of 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tral Efficiency, Noise Performance, and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tral Effici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ing bits into multiple-bit symbols improves bandwidth effici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dwidth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 of how well modulation scheme handles data within defined bandwidt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8-2: Spectral Efficiencies of Digital Modulation Forma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38280" y="308592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8-2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Spectral Efficiencies of Digital Modulation Format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8" descr="tab08_01.jpg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tral Efficiency, Noise Performance, and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Perform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methods having fewest symbols or lower spectral efficiencies have best performance in presence of no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t error rate (B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nal-to-noise (S/N) 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-to-noise (C/N) rat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pectral Efficiency, Noise Performance, and Filter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uce transmitted bandwidth without removing content of data to be transmit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ifying amplitude, frequency, or phase characteristics of carrier with data stream representing ones and zeroes of computer langu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st schemes change carrier state with each bit of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-shift keying (ASK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-shift keying (PSK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mplex Exponential and Analytic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lex Numb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ed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 quantity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composed of both resistance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 and reactance (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components 90° out of phase with resistive compon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x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ithmetic operations involving both real and imaginary quant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mplex Exponential and Analytic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alytic Frequ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 abstract; useful in how digital modulation and demodulation carried out in DS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Complex Exponential and Analytic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SP Modulation and De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of I/Q sig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53000" indent="-221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cess of frequency up-conversion; moving baseband frequency range to higher frequency range of carri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band signal both positive and negative frequency com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ations of modulators and demodulators as DSP functions avoid all problems of analog circuit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ead-Spectrum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pied bandwidth deliberately made to be much greater than specified by Hartley’s la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hopping and direct sequ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reading out transmitted energy over wide bandwidt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ead-Spectrum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ular telephones, mobile Internet, wireless local-area networks (WLANs), automated data collection systems using portable scanners of universal product code (UPC) cod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ead-Spectrum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stream of data bits displaying pseudonoise (PN) characteristic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read-spectrum circuits have PN sequence generators integrated into system 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read-Spectrum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-hopping spre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signal modulates carrier switched in frequency in pseudorandom fash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-sequence spread spectrum (DS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s for cellular systems employing CDMA standa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thogonal Frequency-Division Multiplexing (OF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-carrier (multi-tone) mod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s data at slow rates over multiple carriers simultaneously; achieves high spectral effici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divided into multiple data strea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Wideband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rthogonal Frequency-Division Multiplexing (OF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FDM modulation converse of demod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D radio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-band on-channel (IBOC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sh OFD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read-spectrum technolog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-Shift Key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ing” holdover from Morse code e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wave (CW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 conveying intelligence by simply turning it on or off according to prearranged cod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-tone 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m of AM, but in it carrier always transmit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-shift Key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ng wave shifts output between two predetermined frequenc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ion of FSK accomplished by switching additional capacitor into tank circuit of oscillator when transmitter key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-shift Key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d binary data cause phase of sine-wave carrier to shift by defined amou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ynchronization and Carrier Reinser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 synchroniz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ing reference carrier signal for product detect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art of carrier synchronizer; used for all forms of digital mod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fferential Phase-shift Keying (DPSK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PSK uses BPSK vector relationship for generating an outpu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PSK receiver simpler to impl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es not require coherent carrier recovery sub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Modulation Techniqu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nimum Shift Key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ly used variation on FSK/PSK; used in cordless phon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-phase F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iods of mark and space frequencies such that cycles of sine-wave carrier cross zero right at edges of modulating-signal pulse transi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izes bandwidth by ensuring smooth transition between data st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Bandwidth Considerations of Modulated Signal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of channel will not be infinit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tted pulse not perfect rectangl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requirements for data stream depend on encoding method used to transmit da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deb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 and difference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6:19Z</dcterms:modified>
  <cp:revision>6</cp:revision>
  <dc:subject/>
  <dc:title>Slide 1</dc:title>
</cp:coreProperties>
</file>